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FF2-0266-4BF3-8A37-22B04D2F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FB2-9F98-447C-AD07-0A6F0989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7E2-8C63-41C3-96E8-D01E3182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71D7-103C-47B4-9812-1CE17FAD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E14-8862-41F2-A78B-78672A64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8B9-A824-4E30-9389-38F70595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7CF-F028-4C02-ABB0-032F2DBF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43E6-E7F9-497E-855D-9D2EA8C5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2E8-2A86-4A16-A7C2-99892820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597-F797-46F4-9001-64E60EDC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408-6B9E-4B0E-B9B1-200D6B8A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039B-23F4-466D-B884-B6269349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2561-B086-41EA-99E9-489D2A1401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46440" y="393840"/>
            <a:ext cx="365112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071720"/>
            <a:ext cx="815328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41212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946080"/>
            <a:ext cx="830592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16256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349200"/>
            <a:ext cx="647712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7840" y="304920"/>
            <a:ext cx="59259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703440"/>
            <a:ext cx="845820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501480"/>
            <a:ext cx="86868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19320" y="217440"/>
            <a:ext cx="670536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363600"/>
            <a:ext cx="624816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3880" y="219240"/>
            <a:ext cx="607536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76280" y="192240"/>
            <a:ext cx="647244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06520" y="152280"/>
            <a:ext cx="628956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1190520"/>
            <a:ext cx="84582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1380960"/>
            <a:ext cx="87631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927000"/>
            <a:ext cx="8763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655560"/>
            <a:ext cx="84582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62320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70320" y="0"/>
            <a:ext cx="420192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62040" y="69840"/>
            <a:ext cx="601812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6520" y="905040"/>
            <a:ext cx="875520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434880"/>
            <a:ext cx="784872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577800"/>
            <a:ext cx="861048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320" y="1008000"/>
            <a:ext cx="906768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770120"/>
            <a:ext cx="86868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06400" y="423720"/>
            <a:ext cx="58374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0:20:36Z</dcterms:created>
  <dc:creator>HEP</dc:creator>
  <dc:description/>
  <dc:language>en-US</dc:language>
  <cp:lastModifiedBy>Elisabeth Rolli</cp:lastModifiedBy>
  <dcterms:modified xsi:type="dcterms:W3CDTF">2004-11-30T18:03:42Z</dcterms:modified>
  <cp:revision>5</cp:revision>
  <dc:subject/>
  <dc:title>Présentation PowerPoint  -  Un amour de crocodile</dc:title>
</cp:coreProperties>
</file>